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gif" ContentType="image/gi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DA33-0E95-4FB5-8497-DA8EF0583F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 is a German tradition, dating to about 7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ule” log was a large foundational log placed in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mes from an associated celebratory cry heard about Christmastime because the nights were becoming sh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tree is a German tradition, dating to about 700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ule” log was a large foundational log placed in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 comes from an associated celebratory cry heard about Christmastime because the nights were becoming shor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tch name for Nicholas was Sinterklaas, which became Santa Cl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on Christmas day partly because of the Dutch Santa Claus 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tch name for Nicholas was Sinterklaas, which became Santa Cla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on Christmas day partly because of the Dutch Santa Claus legen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from folktales told of a magician that punished naughty children and rewarded good children with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from folktales told of a magician that punished naughty children and rewarded good children with pres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letoe was used as a Christmas decoration for years, but was associated with pagan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ddess of love – probably where kissing under the mistletoe com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y replaced it, where the thorns remind of Christ’s crown on the cross and the red berries of His she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stletoe was used as a Christmas decoration for years, but was associated with pagan ritu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ddess of love – probably where kissing under the mistletoe comes fr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y replaced it, where the thorns remind of Christ’s crown on the cross and the red berries of His shed b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ghty children in Italy were the first to get a lump of coal in the st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ughty children in Italy were the first to get a lump of coal in the stock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or “carols” [songs] were sung by small choirs for the pleasure of those that happened to walk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ards started in London in 18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or “carols” [songs] were sung by small choirs for the pleasure of those that happened to walk b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ards started in London in 184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ing “carols” [songs] accompanied by a group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l in French is translated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ging “carols” [songs] accompanied by a group d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el in French is translated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s abbreviated Xmas because the word for Christ in Greek is Xris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s abbreviated Xmas because the word for Christ in Greek is Xristo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eve is celebrated because the Jewish tradition is that the new day starts at sundown [therefore Christmas eve is actually the start of Christma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ews (by heritage) are also Christians (by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rae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eve is celebrated because the Jewish tradition is that the new day starts at sundown [therefore Christmas eve is actually the start of Christmas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Jews (by heritage) are also Christians (by fai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 Center in Flo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untry pavilion has a section dedicated to the history and traditions of Christmas (during the Christmas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cot Center in Flori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country pavilion has a section dedicated to the history and traditions of Christmas (during the Christmas se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grims did not celebrat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brought their Christmas traditions, especially in the 1700s and early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s a national celebration gathered momentum during the mid-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grims did not celebrat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igrants brought their Christmas traditions, especially in the 1700s and early 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s a national celebration gathered momentum during the mid-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mbassador to Mexico, J.R. Poinsett, imported (what became) the poinsettia for Christmas in 18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Ambassador to Mexico, J.R. Poinsett, imported (what became) the poinsettia for Christmas in 182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sleigh, reindeer, etc. came from 2 published works in 1822 and 1863-18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2 – “The Night Befor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3-1886 – magazine published pictures of Santa’s workshop, Santa reading letters, Santa checking his lis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sleigh, reindeer, etc. came from 2 published works in 1822 and 1863-1886</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22 – “The Night Befor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63-1886 – magazine published pictures of Santa’s workshop, Santa reading letters, Santa checking his list,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to become popular in 1860s, and by 1874 Macy’s in New York developed Christmas theme window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decorations became common in 1880 when Woolworth’s began to sell manufactured orn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to become popular in 1860s, and by 1874 Macy’s in New York developed Christmas theme window display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e decorations became common in 1880 when Woolworth’s began to sell manufactured orna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oor White House tree tradition started in 1923 with President Cool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door White House tree tradition started in 1923 with President Cooli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st popular secular songs at Christm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 Crosby’s “White Christmas” (19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utry’s “Rudolf the Red-nosed Reindeer” (19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most popular secular songs at Christmas a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g Crosby’s “White Christmas” (194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Autry’s “Rudolf the Red-nosed Reindeer” (1949)</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something to celebrate for ever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raditions incorporating aspects from man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ligiou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s something to celebrate for everybod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traditions incorporating aspects from many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 religious ev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s the birth of Jesus, Savior to Chris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partly because the Bible tells of the wise men (magi) bringing gifts to the Christ-child as they came to worship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ebrates the birth of Jesus, Savior to Christi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partly because the Bible tells of the wise men (magi) bringing gifts to the Christ-child as they came to worship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ity scene comes from the Bible, especially in the books of Matthew and L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ity scene comes from the Bible, especially in the books of Matthew and Lu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Claus comes from a real person in 325 A.D. – Saint Nicholas in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utation for kindness and gene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of financial miracles on behalf of the poor and unha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ly Christian nati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 Claus comes from a real person in 325 A.D. – Saint Nicholas in 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utation for kindness and genero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of financial miracles on behalf of the poor and unhapp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Mostly Christian nation at this t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red and white suit came from the traditional Bishop’s robes that Saint Nicholas would have w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red and white suit came from the traditional Bishop’s robes that Saint Nicholas would have w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ings were originally hung, hoping that Saint Nicholas would bring gold coins (as legend says he did for three poor girls that needed money to get mar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filled with small gifts, especially fruit and 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ckings were originally hung, hoping that Saint Nicholas would bring gold coins (as legend says he did for three poor girls that needed money to get marr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were filled with small gifts, especially fruit and nu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1E8C9B-715A-4F8B-B81E-850D59559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D52836-3115-49E8-BA05-85CD0A11D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EBDE4E-25DC-4303-B4A9-878448BDED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A7D8B8-84BE-4A57-B1C7-96C9BC4324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9530A-0541-441A-9B07-FCAB6E1B3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336DE-77E2-4510-8F9C-062891506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7888D-7916-4A24-86CE-A3086B861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66F48-A32D-4AC2-B5B6-91B856E58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BCC2D-B1B6-4234-873F-97256B0D2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46792-ADA3-4F07-8342-943B7C090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69BCA-5F51-41B2-8995-A4BEB3D33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EF6C17-6630-48F9-9A41-2C92612AF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97766-F67C-4BD4-8F89-093B48E89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19344-A6F0-4122-9657-CF501850C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847CD-00A8-4484-823C-A03D072D6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42CDE-C513-4008-8ADD-A0B3BEDB2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DD845-2EEC-42E5-8DF5-3B115DE9A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CB188C-EFC1-46B4-94CD-5C32581AD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699359-F7F9-4DB3-BC7E-6AD92F7BF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C7829C-1B47-46A6-BB51-9570793F6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1F25DC-7FBE-4668-ACE9-4F29372A9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2EAE4D-CD5F-4B4B-B9A3-182268576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D32E49-3906-46FF-BDE7-83F5C2590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05966F-83DC-49A6-A17C-EBBB0A8DAB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ristmas Around the World</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84C5-F7F8-47BA-A0CE-780900C7F56B}"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ristmas Around the World</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E8B3-5905-48EB-B59C-D7CDB35E041F}"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Around the World</a:t>
            </a:r>
            <a:endParaRPr b="0" lang="en-US" sz="4200" spc="-1" strike="noStrike">
              <a:solidFill>
                <a:srgbClr val="ffffcc"/>
              </a:solidFill>
              <a:latin typeface="Tahoma"/>
            </a:endParaRPr>
          </a:p>
        </p:txBody>
      </p:sp>
      <p:pic>
        <p:nvPicPr>
          <p:cNvPr id="134" name="Picture 5" descr="j0297865"/>
          <p:cNvPicPr/>
          <p:nvPr/>
        </p:nvPicPr>
        <p:blipFill>
          <a:blip r:embed="rId1"/>
          <a:stretch/>
        </p:blipFill>
        <p:spPr>
          <a:xfrm>
            <a:off x="1574640" y="1792440"/>
            <a:ext cx="1803600" cy="1803240"/>
          </a:xfrm>
          <a:prstGeom prst="rect">
            <a:avLst/>
          </a:prstGeom>
          <a:ln w="0">
            <a:noFill/>
          </a:ln>
        </p:spPr>
      </p:pic>
      <p:pic>
        <p:nvPicPr>
          <p:cNvPr id="135" name="Picture 8" descr="j0286738"/>
          <p:cNvPicPr/>
          <p:nvPr/>
        </p:nvPicPr>
        <p:blipFill>
          <a:blip r:embed="rId2"/>
          <a:stretch/>
        </p:blipFill>
        <p:spPr>
          <a:xfrm>
            <a:off x="5562720" y="4114800"/>
            <a:ext cx="1617480" cy="1546200"/>
          </a:xfrm>
          <a:prstGeom prst="rect">
            <a:avLst/>
          </a:prstGeom>
          <a:ln w="0">
            <a:noFill/>
          </a:ln>
        </p:spPr>
      </p:pic>
      <p:pic>
        <p:nvPicPr>
          <p:cNvPr id="136" name="Picture 10" descr="j0098115"/>
          <p:cNvPicPr/>
          <p:nvPr/>
        </p:nvPicPr>
        <p:blipFill>
          <a:blip r:embed="rId3"/>
          <a:stretch/>
        </p:blipFill>
        <p:spPr>
          <a:xfrm>
            <a:off x="1523880" y="4191120"/>
            <a:ext cx="1819440" cy="1339560"/>
          </a:xfrm>
          <a:prstGeom prst="rect">
            <a:avLst/>
          </a:prstGeom>
          <a:ln w="0">
            <a:noFill/>
          </a:ln>
        </p:spPr>
      </p:pic>
      <p:pic>
        <p:nvPicPr>
          <p:cNvPr id="137" name="Picture 13" descr="j0183086"/>
          <p:cNvPicPr/>
          <p:nvPr/>
        </p:nvPicPr>
        <p:blipFill>
          <a:blip r:embed="rId4"/>
          <a:stretch/>
        </p:blipFill>
        <p:spPr>
          <a:xfrm>
            <a:off x="5257800" y="1676520"/>
            <a:ext cx="169848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rmany</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tree is a German tradition, dating to about 700 A.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ule” log was a large foundational log placed in the fireplace</a:t>
            </a:r>
            <a:endParaRPr b="0" lang="en-US" sz="32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omes from an associated celebratory cry heard about Christmastime because the nights were becoming shor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lland</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tch name for Nicholas was Sinterklaas, which became Santa Cla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on Christmas day partly because of the Dutch Santa Claus leg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ends from folktales told of a magician that punished naughty children and rewarded good children with pres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letoe was used as a Christmas decoration for years, but was associated with pagan ritual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ddess of love – probably where kissing under the mistletoe comes from</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ly replaced it, where the thorns remind of Christ’s crown on the cross and the red berries of His shed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taly</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ughty children in Italy were the first to get a lump of coal in the stoc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ngland</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gs or “carols” [songs] were sung by small choirs for the pleasure of those that happened to walk b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cards started in London in 18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rance</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ing “carols” [songs] accompanied by a group danc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el in French is translated Christm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eece</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abbreviated Xmas because the word for Christ in Greek is Xris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rael</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eve is celebrated because the Jewish tradition is that the new day starts at sundown [therefore Christmas eve is actually the start of Christmas da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Jews (by heritage) are also Christians (by fa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exico</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ochebuena</a:t>
            </a:r>
            <a:r>
              <a:rPr b="0" lang="en-US" sz="2800" spc="-1" strike="noStrike">
                <a:solidFill>
                  <a:srgbClr val="ffffff"/>
                </a:solidFill>
                <a:latin typeface="Tahoma"/>
              </a:rPr>
              <a:t>,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pic>
        <p:nvPicPr>
          <p:cNvPr id="139" name="Picture 7" descr=""/>
          <p:cNvPicPr/>
          <p:nvPr/>
        </p:nvPicPr>
        <p:blipFill>
          <a:blip r:embed="rId1"/>
          <a:stretch/>
        </p:blipFill>
        <p:spPr>
          <a:xfrm>
            <a:off x="892080" y="2268360"/>
            <a:ext cx="3167280" cy="851040"/>
          </a:xfrm>
          <a:prstGeom prst="rect">
            <a:avLst/>
          </a:prstGeom>
          <a:ln w="0">
            <a:noFill/>
          </a:ln>
        </p:spPr>
      </p:pic>
      <p:pic>
        <p:nvPicPr>
          <p:cNvPr id="140" name="Picture 22" descr="j0283185"/>
          <p:cNvPicPr/>
          <p:nvPr/>
        </p:nvPicPr>
        <p:blipFill>
          <a:blip r:embed="rId2"/>
          <a:stretch/>
        </p:blipFill>
        <p:spPr>
          <a:xfrm>
            <a:off x="5181480" y="2133720"/>
            <a:ext cx="2806920" cy="3211560"/>
          </a:xfrm>
          <a:prstGeom prst="rect">
            <a:avLst/>
          </a:prstGeom>
          <a:ln w="0">
            <a:noFill/>
          </a:ln>
        </p:spPr>
      </p:pic>
      <p:pic>
        <p:nvPicPr>
          <p:cNvPr id="141" name="Picture 19" descr="SO02974_"/>
          <p:cNvPicPr/>
          <p:nvPr/>
        </p:nvPicPr>
        <p:blipFill>
          <a:blip r:embed="rId3"/>
          <a:stretch/>
        </p:blipFill>
        <p:spPr>
          <a:xfrm>
            <a:off x="1600200" y="3733920"/>
            <a:ext cx="1928880" cy="2009520"/>
          </a:xfrm>
          <a:prstGeom prst="rect">
            <a:avLst/>
          </a:prstGeom>
          <a:ln w="0">
            <a:noFill/>
          </a:ln>
        </p:spPr>
      </p:pic>
      <p:sp>
        <p:nvSpPr>
          <p:cNvPr id="142"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pcot Center in Florid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country pavilion has a section dedicated to the history and traditions of Christmas (during the Christmas sea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grims did not celebrate Christma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s brought their Christmas traditions, especially in the 1700s and early 1800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as a national celebration gathered momentum during the mid-1800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Ambassador to Mexico, J.R. Poinsett, imported (what became) the poinsettia for Christmas in 18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sleigh, reindeer, etc. came from 2 published works in 1822 and 1863-1886</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22 – “The Night Before Christmas”</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63-1886 – magazine published pictures of Santa’s workshop, Santa reading letters, Santa checking his list,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ed to become popular in 1860s, and by 1874 Macy’s in New York developed Christmas theme window display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e decorations became common in 1880 when Woolworth’s began to sell manufactured orna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door White House tree tradition started in 1923 with President Cool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most popular secular songs at Christmas are:</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g Crosby’s “White Christmas” (1942)</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 Autry’s “Rudolf the Red-nosed Reindeer” (1949)</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upon the Montgomery Wards booklet of the same named given away free in 1939 – written by a father attempting to cheer up a sad daughter grieving over a dieing m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something to celebrate for everybody:</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traditions incorporating aspects from many countries</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religious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73152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tor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s the birth of Jesus, Savior to Christian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partly because the Bible tells of the wise men (magi) bringing gifts to the Christ-child as they came to worship Hi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ity scene comes from the Bible, especially in the books of Matthew and Lu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Church set December 25</a:t>
            </a:r>
            <a:r>
              <a:rPr b="0" lang="en-US" sz="3200" spc="-1" strike="noStrike" baseline="30000">
                <a:solidFill>
                  <a:srgbClr val="ffffff"/>
                </a:solidFill>
                <a:latin typeface="Tahoma"/>
              </a:rPr>
              <a:t>th</a:t>
            </a:r>
            <a:r>
              <a:rPr b="0" lang="en-US" sz="3200" spc="-1" strike="noStrike">
                <a:solidFill>
                  <a:srgbClr val="ffffff"/>
                </a:solidFill>
                <a:latin typeface="Tahoma"/>
              </a:rPr>
              <a:t> as the celebration date to combine with the Roman holiday of the winter solstice (when sun has no apparent North or South movement) in 336 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 Claus comes from a real person in 325 A.D. – Saint Nicholas in Turkey*</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utation for kindness and generosity</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ends of financial miracles on behalf of the poor and unhapp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Mostly Christian nation at this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red and white suit came from the traditional Bishop’s robes that Saint Nicholas would have wor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ings were originally hung, hoping that Saint Nicholas would bring gold coins (as legend says he did for three poor girls that needed money to get marri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were filled with small gifts, especially fruit and nu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1:10:23Z</dcterms:created>
  <dc:creator>Warren Sargent</dc:creator>
  <dc:description/>
  <dc:language>en-US</dc:language>
  <cp:lastModifiedBy>RomaK</cp:lastModifiedBy>
  <dcterms:modified xsi:type="dcterms:W3CDTF">2015-09-02T09:51:20Z</dcterms:modified>
  <cp:revision>16</cp:revision>
  <dc:subject/>
  <dc:title>Christmas</dc:title>
</cp:coreProperties>
</file>